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132-15E6-41F4-B1AE-0400C9F6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A26-3FB0-4642-97AA-F3E5372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BC-444D-48E6-9F39-F435FD08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666-F170-4FC6-8E4B-3ABD425A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6B2-2932-4E35-8F99-18339D9F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1E4-C2A1-4F69-9510-5F4FDE87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24C-F0BF-4FD1-BD68-4AFD0DC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12D-0A8A-4517-9612-0090DE1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184-F152-40E1-839D-1BB786A6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731-05F2-4F80-BDA1-94F3300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CD5-A99D-46A9-A928-ED1A8E0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449-0B2B-43CB-8647-A5526FC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393F-419E-4ADA-AAAF-3835CE0D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cc"/>
            </a:gs>
            <a:gs pos="100000">
              <a:srgbClr val="fd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ростая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адываем и вычитаем до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еня было три конфеты, бабушка угостила меня еще одной конфетой. Сколько конфет у меня всего?  (3+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86600" y="2743200"/>
            <a:ext cx="990720" cy="2742840"/>
            <a:chOff x="7086600" y="2743200"/>
            <a:chExt cx="990720" cy="2742840"/>
          </a:xfrm>
        </p:grpSpPr>
        <p:sp>
          <p:nvSpPr>
            <p:cNvPr id="193" name=""/>
            <p:cNvSpPr/>
            <p:nvPr/>
          </p:nvSpPr>
          <p:spPr>
            <a:xfrm>
              <a:off x="7227720" y="3189600"/>
              <a:ext cx="707760" cy="1849680"/>
            </a:xfrm>
            <a:custGeom>
              <a:avLst/>
              <a:gdLst>
                <a:gd name="textAreaLeft" fmla="*/ 34560 w 707760"/>
                <a:gd name="textAreaRight" fmla="*/ 673200 w 707760"/>
                <a:gd name="textAreaTop" fmla="*/ 34560 h 1849680"/>
                <a:gd name="textAreaBottom" fmla="*/ 1815120 h 1849680"/>
              </a:gdLst>
              <a:ahLst/>
              <a:rect l="textAreaLeft" t="textAreaTop" r="textAreaRight" b="textAreaBottom"/>
              <a:pathLst>
                <a:path w="21600" h="56432">
                  <a:moveTo>
                    <a:pt x="3600" y="0"/>
                  </a:moveTo>
                  <a:arcTo wR="3600" hR="3600" stAng="16200000" swAng="-5400000"/>
                  <a:lnTo>
                    <a:pt x="0" y="52832"/>
                  </a:lnTo>
                  <a:arcTo wR="3600" hR="3600" stAng="10800000" swAng="-5400000"/>
                  <a:lnTo>
                    <a:pt x="18000" y="56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274320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7086600" y="503964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9280" y="3381120"/>
              <a:ext cx="48528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сласт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2362320"/>
            <a:ext cx="838080" cy="3200040"/>
            <a:chOff x="1447920" y="2362320"/>
            <a:chExt cx="838080" cy="3200040"/>
          </a:xfrm>
        </p:grpSpPr>
        <p:sp>
          <p:nvSpPr>
            <p:cNvPr id="198" name=""/>
            <p:cNvSpPr/>
            <p:nvPr/>
          </p:nvSpPr>
          <p:spPr>
            <a:xfrm rot="16200000">
              <a:off x="772920" y="3558960"/>
              <a:ext cx="2187720" cy="83808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7400" y="236232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1517400" y="504000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0" y="2362320"/>
            <a:ext cx="838080" cy="3275640"/>
            <a:chOff x="4572000" y="2362320"/>
            <a:chExt cx="838080" cy="3275640"/>
          </a:xfrm>
        </p:grpSpPr>
        <p:sp>
          <p:nvSpPr>
            <p:cNvPr id="202" name=""/>
            <p:cNvSpPr/>
            <p:nvPr/>
          </p:nvSpPr>
          <p:spPr>
            <a:xfrm rot="16200000">
              <a:off x="3871080" y="3597840"/>
              <a:ext cx="2239920" cy="8380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1840" y="236232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4641840" y="510336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24080" y="2362320"/>
            <a:ext cx="838440" cy="3276000"/>
            <a:chOff x="3124080" y="2362320"/>
            <a:chExt cx="838440" cy="3276000"/>
          </a:xfrm>
        </p:grpSpPr>
        <p:sp>
          <p:nvSpPr>
            <p:cNvPr id="206" name=""/>
            <p:cNvSpPr/>
            <p:nvPr/>
          </p:nvSpPr>
          <p:spPr>
            <a:xfrm rot="16200000">
              <a:off x="2423160" y="3597480"/>
              <a:ext cx="2239920" cy="83844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2362320"/>
              <a:ext cx="698760" cy="53460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3193560" y="5103360"/>
              <a:ext cx="698760" cy="53496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960"/>
                <a:gd name="textAreaBottom" fmla="*/ 37296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26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267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7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три цветка, один она подарила Ире, другой – Кате. Сколько цветов осталось у Маши? (3-1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9040" y="2209680"/>
            <a:ext cx="2439360" cy="6544800"/>
            <a:chOff x="6629040" y="2209680"/>
            <a:chExt cx="2439360" cy="6544800"/>
          </a:xfrm>
        </p:grpSpPr>
        <p:sp>
          <p:nvSpPr>
            <p:cNvPr id="213" name=""/>
            <p:cNvSpPr/>
            <p:nvPr/>
          </p:nvSpPr>
          <p:spPr>
            <a:xfrm rot="5400000">
              <a:off x="6724800" y="2461320"/>
              <a:ext cx="1183680" cy="137556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6680" y="2348640"/>
              <a:ext cx="0" cy="278640"/>
            </a:xfrm>
            <a:prstGeom prst="line">
              <a:avLst/>
            </a:prstGeom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5680" y="2209680"/>
              <a:ext cx="162000" cy="208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741480"/>
              <a:ext cx="1132560" cy="501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481600">
              <a:off x="7923960" y="4367880"/>
              <a:ext cx="686160" cy="164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08" y="1581"/>
                    <a:pt x="8815" y="5080"/>
                    <a:pt x="8815" y="10800"/>
                  </a:cubicBezTo>
                  <a:cubicBezTo>
                    <a:pt x="8815" y="16520"/>
                    <a:pt x="15208" y="2001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3680" y="3532320"/>
              <a:ext cx="566640" cy="208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8600" y="2057400"/>
            <a:ext cx="2285640" cy="4267080"/>
            <a:chOff x="228600" y="2057400"/>
            <a:chExt cx="2285640" cy="4267080"/>
          </a:xfrm>
        </p:grpSpPr>
        <p:grpSp>
          <p:nvGrpSpPr>
            <p:cNvPr id="220" name=""/>
            <p:cNvGrpSpPr/>
            <p:nvPr/>
          </p:nvGrpSpPr>
          <p:grpSpPr>
            <a:xfrm>
              <a:off x="228600" y="2057400"/>
              <a:ext cx="2285640" cy="2209320"/>
              <a:chOff x="228600" y="2057400"/>
              <a:chExt cx="2285640" cy="220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514080" y="2333520"/>
                <a:ext cx="1714320" cy="165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600" y="2057400"/>
                <a:ext cx="2285640" cy="2209320"/>
              </a:xfrm>
              <a:prstGeom prst="sun">
                <a:avLst>
                  <a:gd name="adj" fmla="val 2282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85760" y="2885760"/>
                <a:ext cx="571320" cy="552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23880" y="3962520"/>
              <a:ext cx="0" cy="2361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319000">
              <a:off x="761760" y="502884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8445000">
              <a:off x="1447560" y="441936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2209680"/>
              <a:ext cx="2133360" cy="1905120"/>
            </a:xfrm>
            <a:prstGeom prst="sun">
              <a:avLst>
                <a:gd name="adj" fmla="val 443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080" y="2046960"/>
            <a:ext cx="2914920" cy="6967080"/>
            <a:chOff x="2971080" y="2046960"/>
            <a:chExt cx="2914920" cy="6967080"/>
          </a:xfrm>
        </p:grpSpPr>
        <p:grpSp>
          <p:nvGrpSpPr>
            <p:cNvPr id="229" name=""/>
            <p:cNvGrpSpPr/>
            <p:nvPr/>
          </p:nvGrpSpPr>
          <p:grpSpPr>
            <a:xfrm>
              <a:off x="3341880" y="2046960"/>
              <a:ext cx="2544120" cy="2617200"/>
              <a:chOff x="3341880" y="2046960"/>
              <a:chExt cx="2544120" cy="2617200"/>
            </a:xfrm>
          </p:grpSpPr>
          <p:sp>
            <p:nvSpPr>
              <p:cNvPr id="230" name=""/>
              <p:cNvSpPr/>
              <p:nvPr/>
            </p:nvSpPr>
            <p:spPr>
              <a:xfrm rot="21406200">
                <a:off x="4378680" y="205740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21200">
                <a:off x="4891680" y="215712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08800">
                <a:off x="5077440" y="2662920"/>
                <a:ext cx="398520" cy="118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592000">
                <a:off x="3742920" y="276228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905400">
                <a:off x="3865680" y="22564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46600">
                <a:off x="3967920" y="33526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94600">
                <a:off x="4481640" y="350244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873000">
                <a:off x="4975200" y="326052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79040" y="3103560"/>
                <a:ext cx="461520" cy="448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11590800">
              <a:off x="3048120" y="5562000"/>
              <a:ext cx="1635120" cy="86652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000" y="3831840"/>
              <a:ext cx="151560" cy="51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02" y="227"/>
                  </a:moveTo>
                  <a:arcTo wR="10800" hR="10800" stAng="-4694246" swAng="4694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02" y="227"/>
                  </a:moveTo>
                  <a:arcTo wR="10800" hR="10800" stAng="-4694246" swAng="4694246"/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20510400">
              <a:off x="4191120" y="5409720"/>
              <a:ext cx="1447560" cy="103860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3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38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32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ff"/>
            </a:gs>
            <a:gs pos="100000">
              <a:srgbClr val="fda3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92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ма подарила мне красный шарик, а папа дал синий шарик. Сколько шариков у меня всего?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1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57400"/>
            <a:ext cx="1676520" cy="4419720"/>
            <a:chOff x="1981080" y="2057400"/>
            <a:chExt cx="1676520" cy="4419720"/>
          </a:xfrm>
        </p:grpSpPr>
        <p:sp>
          <p:nvSpPr>
            <p:cNvPr id="46" name=""/>
            <p:cNvSpPr/>
            <p:nvPr/>
          </p:nvSpPr>
          <p:spPr>
            <a:xfrm>
              <a:off x="1981080" y="2057400"/>
              <a:ext cx="1676520" cy="3048120"/>
            </a:xfrm>
            <a:prstGeom prst="ellipse">
              <a:avLst/>
            </a:prstGeom>
            <a:solidFill>
              <a:srgbClr val="e735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5105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743200"/>
              <a:ext cx="228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2057400"/>
            <a:ext cx="1676160" cy="4343400"/>
            <a:chOff x="4952880" y="2057400"/>
            <a:chExt cx="1676160" cy="4343400"/>
          </a:xfrm>
        </p:grpSpPr>
        <p:sp>
          <p:nvSpPr>
            <p:cNvPr id="50" name=""/>
            <p:cNvSpPr/>
            <p:nvPr/>
          </p:nvSpPr>
          <p:spPr>
            <a:xfrm>
              <a:off x="4952880" y="2057400"/>
              <a:ext cx="1676160" cy="3048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0960" y="5029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3760" y="259092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мы в корзинке два больших гриба, а у меня два маленьких грибка. Сколько всего у нас с мамой грибов? (2+2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590920"/>
            <a:ext cx="3352320" cy="3733200"/>
            <a:chOff x="914400" y="2590920"/>
            <a:chExt cx="3352320" cy="3733200"/>
          </a:xfrm>
        </p:grpSpPr>
        <p:sp>
          <p:nvSpPr>
            <p:cNvPr id="57" name=""/>
            <p:cNvSpPr/>
            <p:nvPr/>
          </p:nvSpPr>
          <p:spPr>
            <a:xfrm rot="5400000">
              <a:off x="1612800" y="3670200"/>
              <a:ext cx="1955520" cy="3352320"/>
            </a:xfrm>
            <a:prstGeom prst="flowChartDelay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590920"/>
              <a:ext cx="3352320" cy="35557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81480" y="3124080"/>
            <a:ext cx="2590560" cy="2971440"/>
            <a:chOff x="5181480" y="3124080"/>
            <a:chExt cx="2590560" cy="2971440"/>
          </a:xfrm>
        </p:grpSpPr>
        <p:sp>
          <p:nvSpPr>
            <p:cNvPr id="60" name=""/>
            <p:cNvSpPr/>
            <p:nvPr/>
          </p:nvSpPr>
          <p:spPr>
            <a:xfrm rot="5400000">
              <a:off x="5698440" y="4021920"/>
              <a:ext cx="1556640" cy="259056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3124080"/>
              <a:ext cx="2590560" cy="28303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886200"/>
            <a:ext cx="457200" cy="609120"/>
            <a:chOff x="5791320" y="3886200"/>
            <a:chExt cx="457200" cy="609120"/>
          </a:xfrm>
        </p:grpSpPr>
        <p:sp>
          <p:nvSpPr>
            <p:cNvPr id="63" name=""/>
            <p:cNvSpPr/>
            <p:nvPr/>
          </p:nvSpPr>
          <p:spPr>
            <a:xfrm>
              <a:off x="5905440" y="4089240"/>
              <a:ext cx="228600" cy="406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867640" y="3809880"/>
              <a:ext cx="304560" cy="45720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629400" y="3962520"/>
            <a:ext cx="380880" cy="533160"/>
            <a:chOff x="6629400" y="3962520"/>
            <a:chExt cx="380880" cy="533160"/>
          </a:xfrm>
        </p:grpSpPr>
        <p:sp>
          <p:nvSpPr>
            <p:cNvPr id="66" name=""/>
            <p:cNvSpPr/>
            <p:nvPr/>
          </p:nvSpPr>
          <p:spPr>
            <a:xfrm>
              <a:off x="6724440" y="4140360"/>
              <a:ext cx="190440" cy="355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6686640" y="3905280"/>
              <a:ext cx="266400" cy="38088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447920" y="3200040"/>
            <a:ext cx="1142640" cy="1143000"/>
            <a:chOff x="1447920" y="3200040"/>
            <a:chExt cx="1142640" cy="1143000"/>
          </a:xfrm>
        </p:grpSpPr>
        <p:sp>
          <p:nvSpPr>
            <p:cNvPr id="69" name=""/>
            <p:cNvSpPr/>
            <p:nvPr/>
          </p:nvSpPr>
          <p:spPr>
            <a:xfrm>
              <a:off x="1733400" y="3581280"/>
              <a:ext cx="57168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733400" y="2914200"/>
              <a:ext cx="571320" cy="114264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3200040"/>
            <a:ext cx="990360" cy="1143000"/>
            <a:chOff x="2666880" y="320004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2914200" y="3581280"/>
              <a:ext cx="49536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876400" y="2990520"/>
              <a:ext cx="571320" cy="99036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144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86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5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2 книжки, одну она дала почитать подруж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книг осталось у Маши? (2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209680"/>
            <a:ext cx="2133360" cy="2819520"/>
            <a:chOff x="1905120" y="2209680"/>
            <a:chExt cx="2133360" cy="2819520"/>
          </a:xfrm>
        </p:grpSpPr>
        <p:sp>
          <p:nvSpPr>
            <p:cNvPr id="78" name=""/>
            <p:cNvSpPr/>
            <p:nvPr/>
          </p:nvSpPr>
          <p:spPr>
            <a:xfrm>
              <a:off x="1905120" y="2209680"/>
              <a:ext cx="2133360" cy="2819520"/>
            </a:xfrm>
            <a:prstGeom prst="cube">
              <a:avLst>
                <a:gd name="adj" fmla="val 611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73880" y="2612160"/>
              <a:ext cx="17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entury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5200" y="3485160"/>
              <a:ext cx="963360" cy="93960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768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264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120" y="4021920"/>
              <a:ext cx="206280" cy="66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00600" y="1905120"/>
            <a:ext cx="2666880" cy="3200400"/>
            <a:chOff x="4800600" y="1905120"/>
            <a:chExt cx="2666880" cy="3200400"/>
          </a:xfrm>
        </p:grpSpPr>
        <p:sp>
          <p:nvSpPr>
            <p:cNvPr id="85" name=""/>
            <p:cNvSpPr/>
            <p:nvPr/>
          </p:nvSpPr>
          <p:spPr>
            <a:xfrm>
              <a:off x="4876920" y="1905120"/>
              <a:ext cx="2590560" cy="3200400"/>
            </a:xfrm>
            <a:prstGeom prst="cube">
              <a:avLst>
                <a:gd name="adj" fmla="val 6115"/>
              </a:avLst>
            </a:prstGeom>
            <a:gradFill rotWithShape="0">
              <a:gsLst>
                <a:gs pos="0">
                  <a:srgbClr val="fda3a1"/>
                </a:gs>
                <a:gs pos="50000">
                  <a:srgbClr val="ffffff"/>
                </a:gs>
                <a:gs pos="100000">
                  <a:srgbClr val="fda3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2438640"/>
              <a:ext cx="236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ТИХ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АМЫХ МАЛЕН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4495680"/>
            <a:ext cx="609480" cy="53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133720"/>
            <a:ext cx="53316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тке пять листьев?  Два листика упало на землю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листьев осталось на ветке? (5-2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960" y="742680"/>
            <a:ext cx="5942880" cy="5733360"/>
            <a:chOff x="228960" y="742680"/>
            <a:chExt cx="5942880" cy="5733360"/>
          </a:xfrm>
        </p:grpSpPr>
        <p:sp>
          <p:nvSpPr>
            <p:cNvPr id="93" name=""/>
            <p:cNvSpPr/>
            <p:nvPr/>
          </p:nvSpPr>
          <p:spPr>
            <a:xfrm flipV="1">
              <a:off x="457200" y="2590560"/>
              <a:ext cx="54100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7560" y="912240"/>
              <a:ext cx="1675440" cy="39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6017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6017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" y="4495680"/>
              <a:ext cx="3961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66880" y="989640"/>
              <a:ext cx="1218960" cy="289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91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9102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7080" y="3276360"/>
              <a:ext cx="25898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428280" y="4343400"/>
              <a:ext cx="243756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16" y="815"/>
                  </a:moveTo>
                  <a:arcTo wR="10800" hR="10800" stAng="-4055938" swAng="405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16" y="815"/>
                  </a:moveTo>
                  <a:arcTo wR="10800" hR="10800" stAng="-4055938" swAng="4055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47560" y="2284920"/>
              <a:ext cx="1370880" cy="12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3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3540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57800" y="3430440"/>
              <a:ext cx="30384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4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4109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4640" y="742680"/>
              <a:ext cx="106596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51" y="42"/>
                  </a:moveTo>
                  <a:arcTo wR="10800" hR="10800" stAng="-5096902" swAng="5279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51" y="42"/>
                  </a:moveTo>
                  <a:arcTo wR="10800" hR="10800" stAng="-5096902" swAng="52798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2742840"/>
              <a:ext cx="12189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53400" y="1904040"/>
              <a:ext cx="1065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448280" y="2970720"/>
              <a:ext cx="1218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429000" y="1141920"/>
              <a:ext cx="913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3504960"/>
              <a:ext cx="1218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81280" y="4952880"/>
              <a:ext cx="60912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370880"/>
              <a:ext cx="609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1304800">
            <a:off x="3200040" y="563868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61600">
            <a:off x="6095880" y="2819160"/>
            <a:ext cx="609840" cy="685800"/>
          </a:xfrm>
          <a:custGeom>
            <a:avLst/>
            <a:gdLst>
              <a:gd name="textAreaLeft" fmla="*/ 143280 w 609840"/>
              <a:gd name="textAreaRight" fmla="*/ 466200 w 60984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8890800">
            <a:off x="2894760" y="12949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19600">
            <a:off x="4952880" y="40381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6385800">
            <a:off x="837360" y="26665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70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701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мле лежит два яблока, с ветки упало еще одно. Сколько яблок на земле? (2+1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2874600"/>
            <a:ext cx="1447920" cy="2230560"/>
            <a:chOff x="1371600" y="2874600"/>
            <a:chExt cx="1447920" cy="2230560"/>
          </a:xfrm>
        </p:grpSpPr>
        <p:sp>
          <p:nvSpPr>
            <p:cNvPr id="118" name=""/>
            <p:cNvSpPr/>
            <p:nvPr/>
          </p:nvSpPr>
          <p:spPr>
            <a:xfrm>
              <a:off x="1371600" y="3830400"/>
              <a:ext cx="1447920" cy="12747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15200" y="2874240"/>
              <a:ext cx="360720" cy="95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4480" y="4998960"/>
              <a:ext cx="361800" cy="106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3216240"/>
            <a:ext cx="1524240" cy="1964880"/>
            <a:chOff x="3809880" y="3216240"/>
            <a:chExt cx="1524240" cy="1964880"/>
          </a:xfrm>
        </p:grpSpPr>
        <p:sp>
          <p:nvSpPr>
            <p:cNvPr id="122" name=""/>
            <p:cNvSpPr/>
            <p:nvPr/>
          </p:nvSpPr>
          <p:spPr>
            <a:xfrm>
              <a:off x="3809880" y="3794040"/>
              <a:ext cx="1524240" cy="1387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45280" y="3215880"/>
              <a:ext cx="25344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1200" y="5065920"/>
              <a:ext cx="380880" cy="115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3048120"/>
            <a:ext cx="1371600" cy="2133000"/>
            <a:chOff x="6553080" y="3048120"/>
            <a:chExt cx="1371600" cy="2133000"/>
          </a:xfrm>
        </p:grpSpPr>
        <p:sp>
          <p:nvSpPr>
            <p:cNvPr id="126" name=""/>
            <p:cNvSpPr/>
            <p:nvPr/>
          </p:nvSpPr>
          <p:spPr>
            <a:xfrm>
              <a:off x="6553080" y="3962160"/>
              <a:ext cx="1371600" cy="12189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67880" y="3047760"/>
              <a:ext cx="3420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7160" y="5079600"/>
              <a:ext cx="342720" cy="10152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14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4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бе горит пять звездочек, одна погас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звездочек теперь горит на небе? (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42900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18148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05520"/>
            <a:ext cx="990720" cy="106668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05120"/>
            <a:ext cx="1143000" cy="121896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447920"/>
            <a:ext cx="1067040" cy="114300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5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53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77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пирамидка из двух кубиков – покажи, какая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ая пирамидка из трех кубиков – покаж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сего кубиков в двух пирамидках? (2+3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14800" y="2590920"/>
            <a:ext cx="1600200" cy="2514600"/>
            <a:chOff x="4114800" y="2590920"/>
            <a:chExt cx="1600200" cy="2514600"/>
          </a:xfrm>
        </p:grpSpPr>
        <p:sp>
          <p:nvSpPr>
            <p:cNvPr id="141" name=""/>
            <p:cNvSpPr/>
            <p:nvPr/>
          </p:nvSpPr>
          <p:spPr>
            <a:xfrm>
              <a:off x="4114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35268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25909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276720"/>
            <a:ext cx="1218960" cy="1828800"/>
            <a:chOff x="1676520" y="3276720"/>
            <a:chExt cx="1218960" cy="1828800"/>
          </a:xfrm>
        </p:grpSpPr>
        <p:sp>
          <p:nvSpPr>
            <p:cNvPr id="145" name=""/>
            <p:cNvSpPr/>
            <p:nvPr/>
          </p:nvSpPr>
          <p:spPr>
            <a:xfrm>
              <a:off x="1828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91440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9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9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9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35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41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41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0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843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ебо полетел воздушный змей, по дороге одна ленточка оторвалась. Сколько ленточек осталось у воздушного змея? ( 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84400" y="-2576520"/>
            <a:ext cx="5556600" cy="6413400"/>
            <a:chOff x="6584400" y="-2576520"/>
            <a:chExt cx="5556600" cy="6413400"/>
          </a:xfrm>
        </p:grpSpPr>
        <p:sp>
          <p:nvSpPr>
            <p:cNvPr id="153" name=""/>
            <p:cNvSpPr/>
            <p:nvPr/>
          </p:nvSpPr>
          <p:spPr>
            <a:xfrm rot="1528200">
              <a:off x="9067680" y="1523520"/>
              <a:ext cx="563400" cy="84096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876800">
              <a:off x="8457840" y="2209320"/>
              <a:ext cx="563760" cy="84096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964200">
              <a:off x="7682400" y="2756160"/>
              <a:ext cx="56304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966520" y="-2576520"/>
              <a:ext cx="3174480" cy="3704760"/>
              <a:chOff x="8966520" y="-2576520"/>
              <a:chExt cx="3174480" cy="3704760"/>
            </a:xfrm>
          </p:grpSpPr>
          <p:sp>
            <p:nvSpPr>
              <p:cNvPr id="157" name=""/>
              <p:cNvSpPr/>
              <p:nvPr/>
            </p:nvSpPr>
            <p:spPr>
              <a:xfrm rot="1246800">
                <a:off x="9448560" y="-228600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446800">
                <a:off x="10130760" y="-14565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446800">
                <a:off x="10799280" y="-12027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46800">
                <a:off x="10267560" y="-147204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246800">
                <a:off x="10936080" y="-121860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301200">
                <a:off x="9917280" y="-118116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9841320" y="-429840"/>
                <a:ext cx="18288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74440" y="-20700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9200">
                <a:off x="10163520" y="-17496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246800">
                <a:off x="10257120" y="-1300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246800">
                <a:off x="10925640" y="-10468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4758000">
              <a:off x="6768000" y="3061080"/>
              <a:ext cx="563400" cy="841320"/>
            </a:xfrm>
            <a:prstGeom prst="flowChartCollat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16400">
              <a:off x="9524880" y="761760"/>
              <a:ext cx="563400" cy="85536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4758000">
            <a:off x="1890720" y="5499720"/>
            <a:ext cx="563760" cy="841320"/>
          </a:xfrm>
          <a:prstGeom prst="flowChartCollat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02800" y="547560"/>
            <a:ext cx="4675680" cy="6182280"/>
            <a:chOff x="3502800" y="547560"/>
            <a:chExt cx="4675680" cy="6182280"/>
          </a:xfrm>
        </p:grpSpPr>
        <p:sp>
          <p:nvSpPr>
            <p:cNvPr id="172" name=""/>
            <p:cNvSpPr/>
            <p:nvPr/>
          </p:nvSpPr>
          <p:spPr>
            <a:xfrm rot="1528200">
              <a:off x="5104800" y="4647960"/>
              <a:ext cx="563760" cy="84132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6800">
              <a:off x="4495320" y="5333760"/>
              <a:ext cx="563400" cy="84132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964200">
              <a:off x="3719520" y="5880960"/>
              <a:ext cx="56376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004000" y="547560"/>
              <a:ext cx="3174480" cy="3704760"/>
              <a:chOff x="5004000" y="547560"/>
              <a:chExt cx="3174480" cy="3704760"/>
            </a:xfrm>
          </p:grpSpPr>
          <p:sp>
            <p:nvSpPr>
              <p:cNvPr id="176" name=""/>
              <p:cNvSpPr/>
              <p:nvPr/>
            </p:nvSpPr>
            <p:spPr>
              <a:xfrm rot="1246800">
                <a:off x="5486040" y="83772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446800">
                <a:off x="6168960" y="166680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446800">
                <a:off x="6837480" y="192024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46800">
                <a:off x="6305400" y="165132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46800">
                <a:off x="6973920" y="190476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301200">
                <a:off x="5955480" y="194148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878800" y="2693880"/>
                <a:ext cx="18324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2280" y="291672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9200">
                <a:off x="6201000" y="294840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46800">
                <a:off x="6294960" y="1822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46800">
                <a:off x="6963480" y="20764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016400">
              <a:off x="5562000" y="3885840"/>
              <a:ext cx="563760" cy="85572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4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43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2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45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3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09-08-10T06:18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